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36E-C511-48BF-B882-B742C82E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1D6-03D4-48D8-8542-91C02367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ACF-1C84-41F2-A97F-AF6051B8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9EE-53F4-461A-93F5-24344D33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5D2-5C5C-43B4-83E3-05A90E0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D3E-9E6C-4C2C-B164-5358A68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0EB-F288-4BF3-9BC3-DAE56E8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2FB-D653-423D-861A-9826B48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7E8-608E-4F6B-BEBA-28F73078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DD7-69E2-4387-9CE6-BC90E18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99F-EA1D-441B-99FF-FED8528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281-0E58-44E1-8B71-FE9379C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190-C7A1-4CBE-A3EE-827F45831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eb.mit.edu/invent/iow/naismith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525312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0"/>
            <a:ext cx="1741320" cy="178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331040" y="0"/>
            <a:ext cx="1812960" cy="17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14600" y="83808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asketbal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4280" y="2430360"/>
            <a:ext cx="333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Naismith"/>
          <p:cNvPicPr/>
          <p:nvPr/>
        </p:nvPicPr>
        <p:blipFill>
          <a:blip r:embed="rId1"/>
          <a:srcRect l="0" t="0" r="0" b="4878"/>
          <a:stretch/>
        </p:blipFill>
        <p:spPr>
          <a:xfrm>
            <a:off x="5867280" y="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3808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ketball (Game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anuary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naismith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Naismith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19051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of the classes he instructed, Naismith was charged by the superintendent to come up with new games that could help bring recreational sports into the gymnas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 was first played with 2 peach baskets and a soccer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basketball was called “Duck on a Rock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 was invented (officially) in194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timated 300 million people play the gam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 is less brutal today than it was when it was first pl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Naismith was born November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861,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smith lived with his Grandmother because his parents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3 sib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was an outstanding ath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November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9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8Z</dcterms:created>
  <dc:creator>install</dc:creator>
  <dc:description/>
  <dc:language>en-US</dc:language>
  <cp:lastModifiedBy>install</cp:lastModifiedBy>
  <dcterms:modified xsi:type="dcterms:W3CDTF">2011-01-14T16:53:47Z</dcterms:modified>
  <cp:revision>7</cp:revision>
  <dc:subject/>
  <dc:title>Slide 1</dc:title>
</cp:coreProperties>
</file>